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5986-3116-434F-992D-55F9E172A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329C-F0BE-4392-B5AA-732A4DA85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AF1B-D5AA-4778-85FE-4777395BA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4724-8FE2-44BB-A82D-6B2BDFDA0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0CC8-C8B3-440C-8680-D54EABE9D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886D-6653-461B-8ED0-7ABDE5454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4AD9-4FE0-4F67-9FC7-73FF61402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9ADD-7D13-4885-B6E3-772A2070E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2267-451A-40F1-81A4-842B7AA6D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8F13-FD20-47F1-A5F4-BD00895AE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634F-D0DC-4E8A-BDD0-CBCE09430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5273-A214-4B47-97D6-418E05226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0C99E-FEBB-4A2C-9D49-EED681ACBF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Me llamo _________ Clase 6IM</a:t>
            </a:r>
            <a:br>
              <a:rPr sz="3600"/>
            </a:b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La fecha es el 30 de abril del 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7631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Propósito # 57: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Qué te due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OMAR QUIZ 3: UNIDAD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fine los cognados en ing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síntoma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diagn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aler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inye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medic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d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table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aspir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antibió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3938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Vocabulario Nue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¿Que te duele?           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¿Tienes dolor de…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Pictures 015"/>
          <p:cNvPicPr/>
          <p:nvPr/>
        </p:nvPicPr>
        <p:blipFill>
          <a:blip r:embed="rId1"/>
          <a:stretch/>
        </p:blipFill>
        <p:spPr>
          <a:xfrm>
            <a:off x="533520" y="1828800"/>
            <a:ext cx="1904760" cy="1762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Pictures 026"/>
          <p:cNvPicPr/>
          <p:nvPr/>
        </p:nvPicPr>
        <p:blipFill>
          <a:blip r:embed="rId2"/>
          <a:stretch/>
        </p:blipFill>
        <p:spPr>
          <a:xfrm>
            <a:off x="3505320" y="1676520"/>
            <a:ext cx="1685880" cy="1752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Pictures 038"/>
          <p:cNvPicPr/>
          <p:nvPr/>
        </p:nvPicPr>
        <p:blipFill>
          <a:blip r:embed="rId3"/>
          <a:stretch/>
        </p:blipFill>
        <p:spPr>
          <a:xfrm>
            <a:off x="6553080" y="1676520"/>
            <a:ext cx="1981440" cy="1666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Pictures 029"/>
          <p:cNvPicPr/>
          <p:nvPr/>
        </p:nvPicPr>
        <p:blipFill>
          <a:blip r:embed="rId4"/>
          <a:stretch/>
        </p:blipFill>
        <p:spPr>
          <a:xfrm>
            <a:off x="5334120" y="4114800"/>
            <a:ext cx="1366560" cy="2057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Pictures 004"/>
          <p:cNvPicPr/>
          <p:nvPr/>
        </p:nvPicPr>
        <p:blipFill>
          <a:blip r:embed="rId5"/>
          <a:stretch/>
        </p:blipFill>
        <p:spPr>
          <a:xfrm>
            <a:off x="1143000" y="4724280"/>
            <a:ext cx="1724040" cy="12970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3"/>
          <p:cNvSpPr/>
          <p:nvPr/>
        </p:nvSpPr>
        <p:spPr>
          <a:xfrm>
            <a:off x="610560" y="1219320"/>
            <a:ext cx="277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hat hurts yo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4"/>
          <p:cNvSpPr/>
          <p:nvPr/>
        </p:nvSpPr>
        <p:spPr>
          <a:xfrm>
            <a:off x="4727160" y="1219320"/>
            <a:ext cx="340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o you have…pa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5"/>
          <p:cNvSpPr/>
          <p:nvPr/>
        </p:nvSpPr>
        <p:spPr>
          <a:xfrm>
            <a:off x="538560" y="6019920"/>
            <a:ext cx="29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Me duele la espal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6"/>
          <p:cNvSpPr/>
          <p:nvPr/>
        </p:nvSpPr>
        <p:spPr>
          <a:xfrm>
            <a:off x="4680" y="4038480"/>
            <a:ext cx="32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Arial"/>
              </a:rPr>
              <a:t>Tengo dolor de cabe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7"/>
          <p:cNvSpPr/>
          <p:nvPr/>
        </p:nvSpPr>
        <p:spPr>
          <a:xfrm>
            <a:off x="2899800" y="3429000"/>
            <a:ext cx="304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Me duele la garga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8"/>
          <p:cNvSpPr/>
          <p:nvPr/>
        </p:nvSpPr>
        <p:spPr>
          <a:xfrm>
            <a:off x="3508200" y="3809880"/>
            <a:ext cx="18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Arial"/>
              </a:rPr>
              <a:t>Tengo dol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Arial"/>
              </a:rPr>
              <a:t>de garga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9"/>
          <p:cNvSpPr/>
          <p:nvPr/>
        </p:nvSpPr>
        <p:spPr>
          <a:xfrm>
            <a:off x="5947200" y="3200400"/>
            <a:ext cx="31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Me duele el estoma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0"/>
          <p:cNvSpPr/>
          <p:nvPr/>
        </p:nvSpPr>
        <p:spPr>
          <a:xfrm>
            <a:off x="6580440" y="3581280"/>
            <a:ext cx="202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Arial"/>
              </a:rPr>
              <a:t>Tengo d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8000"/>
                </a:solidFill>
                <a:latin typeface="Arial"/>
              </a:rPr>
              <a:t>de estoma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1"/>
          <p:cNvSpPr/>
          <p:nvPr/>
        </p:nvSpPr>
        <p:spPr>
          <a:xfrm>
            <a:off x="156600" y="3657600"/>
            <a:ext cx="282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Me duele la cabe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386640" y="6400800"/>
            <a:ext cx="33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Arial"/>
              </a:rPr>
              <a:t>Tengo dolor de espal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3"/>
          <p:cNvSpPr/>
          <p:nvPr/>
        </p:nvSpPr>
        <p:spPr>
          <a:xfrm>
            <a:off x="4119120" y="6095880"/>
            <a:ext cx="266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Me duele la mue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4"/>
          <p:cNvSpPr/>
          <p:nvPr/>
        </p:nvSpPr>
        <p:spPr>
          <a:xfrm>
            <a:off x="5414760" y="6400800"/>
            <a:ext cx="31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Arial"/>
              </a:rPr>
              <a:t>Tengo dolor de mue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3505320" y="457200"/>
            <a:ext cx="1981080" cy="1838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Pictures 030"/>
          <p:cNvPicPr/>
          <p:nvPr/>
        </p:nvPicPr>
        <p:blipFill>
          <a:blip r:embed="rId2"/>
          <a:stretch/>
        </p:blipFill>
        <p:spPr>
          <a:xfrm>
            <a:off x="5334120" y="3860640"/>
            <a:ext cx="3504960" cy="2324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Pictures 003"/>
          <p:cNvPicPr/>
          <p:nvPr/>
        </p:nvPicPr>
        <p:blipFill>
          <a:blip r:embed="rId3"/>
          <a:stretch/>
        </p:blipFill>
        <p:spPr>
          <a:xfrm>
            <a:off x="6384960" y="380880"/>
            <a:ext cx="2378160" cy="2590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Pictures 035"/>
          <p:cNvPicPr/>
          <p:nvPr/>
        </p:nvPicPr>
        <p:blipFill>
          <a:blip r:embed="rId4"/>
          <a:stretch/>
        </p:blipFill>
        <p:spPr>
          <a:xfrm>
            <a:off x="228600" y="228600"/>
            <a:ext cx="2743200" cy="2416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Pictures 023"/>
          <p:cNvPicPr/>
          <p:nvPr/>
        </p:nvPicPr>
        <p:blipFill>
          <a:blip r:embed="rId5"/>
          <a:stretch/>
        </p:blipFill>
        <p:spPr>
          <a:xfrm>
            <a:off x="609480" y="3733920"/>
            <a:ext cx="2870280" cy="21524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0"/>
          <p:cNvSpPr/>
          <p:nvPr/>
        </p:nvSpPr>
        <p:spPr>
          <a:xfrm>
            <a:off x="357120" y="2590920"/>
            <a:ext cx="26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Me duele la pie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1"/>
          <p:cNvSpPr/>
          <p:nvPr/>
        </p:nvSpPr>
        <p:spPr>
          <a:xfrm>
            <a:off x="5040" y="3048120"/>
            <a:ext cx="316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Arial"/>
              </a:rPr>
              <a:t>Tengo dolor de pie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2"/>
          <p:cNvSpPr/>
          <p:nvPr/>
        </p:nvSpPr>
        <p:spPr>
          <a:xfrm>
            <a:off x="3465000" y="2286000"/>
            <a:ext cx="224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Me duele el p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3204720" y="2743200"/>
            <a:ext cx="271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Arial"/>
              </a:rPr>
              <a:t>Tengo dolor de p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4"/>
          <p:cNvSpPr/>
          <p:nvPr/>
        </p:nvSpPr>
        <p:spPr>
          <a:xfrm>
            <a:off x="6309000" y="2971800"/>
            <a:ext cx="26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Me duele el bra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5"/>
          <p:cNvSpPr/>
          <p:nvPr/>
        </p:nvSpPr>
        <p:spPr>
          <a:xfrm>
            <a:off x="6063480" y="3352680"/>
            <a:ext cx="307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Arial"/>
              </a:rPr>
              <a:t>Tengo dolor de bra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6"/>
          <p:cNvSpPr/>
          <p:nvPr/>
        </p:nvSpPr>
        <p:spPr>
          <a:xfrm>
            <a:off x="746640" y="5867280"/>
            <a:ext cx="26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Me duele la m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7"/>
          <p:cNvSpPr/>
          <p:nvPr/>
        </p:nvSpPr>
        <p:spPr>
          <a:xfrm>
            <a:off x="500760" y="6248520"/>
            <a:ext cx="307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Arial"/>
              </a:rPr>
              <a:t>Tengo dolor de m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8"/>
          <p:cNvSpPr/>
          <p:nvPr/>
        </p:nvSpPr>
        <p:spPr>
          <a:xfrm>
            <a:off x="5337720" y="6019920"/>
            <a:ext cx="344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Me duele todo el cuer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9"/>
          <p:cNvSpPr/>
          <p:nvPr/>
        </p:nvSpPr>
        <p:spPr>
          <a:xfrm>
            <a:off x="5338440" y="640080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Arial"/>
              </a:rPr>
              <a:t>Tengo dolor de cuer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5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BOO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complet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1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5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1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5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QUIZ 3 SIGN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5T02:30:57Z</dcterms:created>
  <dc:creator>Helen Zumaeta</dc:creator>
  <dc:description/>
  <dc:language>en-US</dc:language>
  <cp:lastModifiedBy>Helen Zumaeta</cp:lastModifiedBy>
  <dcterms:modified xsi:type="dcterms:W3CDTF">2013-04-30T13:18:17Z</dcterms:modified>
  <cp:revision>11</cp:revision>
  <dc:subject/>
  <dc:title>Me llamo _________ Clase 8IM La fecha es el 5 de mayo del 2011</dc:title>
</cp:coreProperties>
</file>